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9451-0DE1-44DB-AB08-BC550FA2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231E-ED0D-4C92-896F-AFE15891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3C85-2389-4A25-934C-FE75D238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434A-268C-4BAE-8824-8A7890DD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F932-ACD5-42BC-B0AF-24EA5D3B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053A-F0A4-4577-8437-19062DCE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52FC-E08D-4588-88BD-0C79C762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23C5-C296-40F0-9FC1-99ED6EAE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9D8D-9993-4AB0-91A5-22C83664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6E97-D561-445B-99BF-E17F0E8E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62E0-07B6-4C90-9B7F-4C3236AA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231E-DE37-49E7-97C0-FDF35E4D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F30E-0327-4C5F-B020-6204523C2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Health and Well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4"/>
          <p:cNvSpPr/>
          <p:nvPr/>
        </p:nvSpPr>
        <p:spPr>
          <a:xfrm>
            <a:off x="2362320" y="1676520"/>
            <a:ext cx="4343400" cy="4267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5"/>
          <p:cNvSpPr/>
          <p:nvPr/>
        </p:nvSpPr>
        <p:spPr>
          <a:xfrm>
            <a:off x="3809880" y="3200400"/>
            <a:ext cx="144792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 flipV="1">
            <a:off x="4495680" y="16761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 flipH="1">
            <a:off x="2361960" y="38098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"/>
          <p:cNvSpPr/>
          <p:nvPr/>
        </p:nvSpPr>
        <p:spPr>
          <a:xfrm>
            <a:off x="5257800" y="3809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9"/>
          <p:cNvSpPr/>
          <p:nvPr/>
        </p:nvSpPr>
        <p:spPr>
          <a:xfrm>
            <a:off x="4572000" y="44197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962520" y="335268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Social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1"/>
          <p:cNvSpPr/>
          <p:nvPr/>
        </p:nvSpPr>
        <p:spPr>
          <a:xfrm flipH="1" flipV="1">
            <a:off x="304560" y="2971440"/>
            <a:ext cx="20574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2"/>
          <p:cNvSpPr/>
          <p:nvPr/>
        </p:nvSpPr>
        <p:spPr>
          <a:xfrm flipH="1" flipV="1">
            <a:off x="761760" y="1828800"/>
            <a:ext cx="1981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3"/>
          <p:cNvSpPr/>
          <p:nvPr/>
        </p:nvSpPr>
        <p:spPr>
          <a:xfrm flipH="1" flipV="1">
            <a:off x="1371240" y="914040"/>
            <a:ext cx="19810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4"/>
          <p:cNvSpPr/>
          <p:nvPr/>
        </p:nvSpPr>
        <p:spPr>
          <a:xfrm flipV="1">
            <a:off x="5334120" y="1066320"/>
            <a:ext cx="2286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 flipV="1">
            <a:off x="6248520" y="1904760"/>
            <a:ext cx="2514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6"/>
          <p:cNvSpPr/>
          <p:nvPr/>
        </p:nvSpPr>
        <p:spPr>
          <a:xfrm flipV="1">
            <a:off x="6705720" y="2895480"/>
            <a:ext cx="21333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7"/>
          <p:cNvSpPr/>
          <p:nvPr/>
        </p:nvSpPr>
        <p:spPr>
          <a:xfrm flipH="1">
            <a:off x="304920" y="4495680"/>
            <a:ext cx="21333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9"/>
          <p:cNvSpPr/>
          <p:nvPr/>
        </p:nvSpPr>
        <p:spPr>
          <a:xfrm flipH="1">
            <a:off x="456840" y="518148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0"/>
          <p:cNvSpPr/>
          <p:nvPr/>
        </p:nvSpPr>
        <p:spPr>
          <a:xfrm flipH="1">
            <a:off x="1294920" y="5638680"/>
            <a:ext cx="21337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1"/>
          <p:cNvSpPr/>
          <p:nvPr/>
        </p:nvSpPr>
        <p:spPr>
          <a:xfrm>
            <a:off x="6705720" y="4343400"/>
            <a:ext cx="21333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2"/>
          <p:cNvSpPr/>
          <p:nvPr/>
        </p:nvSpPr>
        <p:spPr>
          <a:xfrm>
            <a:off x="6248520" y="5105520"/>
            <a:ext cx="21333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3"/>
          <p:cNvSpPr/>
          <p:nvPr/>
        </p:nvSpPr>
        <p:spPr>
          <a:xfrm>
            <a:off x="5562720" y="5715000"/>
            <a:ext cx="190476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ps for Maintaining Healthy Relationships to Care for your Social Heal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eping a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r health triangle is _____________, you have a high degree of __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ealth Continu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Ide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continu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health can be measured on a sliding sca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685800" y="2666880"/>
            <a:ext cx="7696080" cy="2057400"/>
          </a:xfrm>
          <a:prstGeom prst="leftRightArrow">
            <a:avLst>
              <a:gd name="adj1" fmla="val 50000"/>
              <a:gd name="adj2" fmla="val 744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57200" y="2362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mature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6629400" y="22860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Level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y Tim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partner, create a health continuum that has behaviors that would lead to premature death or a high level of health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at least 10 behaviors to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the behavior falls in the correct spot on the continuum based on the health risk of the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nic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word Heal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steps to promote physical heal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health continuum?  What are the end po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Vocabul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/Emotional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l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nic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Ide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Ter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Health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mportant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Health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2819520" y="2133720"/>
            <a:ext cx="3504960" cy="312408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4572000" y="2209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 flipH="1">
            <a:off x="2819520" y="4114800"/>
            <a:ext cx="17524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>
            <a:off x="4572000" y="4114800"/>
            <a:ext cx="17524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1295280" y="541008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Health Triangle is made up of: _____________________________________________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Tips for Physical Heal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tal/ Emotional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reflection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tal/ Emotional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Characteristics of Mentally and Emotionally Healthy Peo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6T13:50:24Z</dcterms:created>
  <dc:creator>sroberts</dc:creator>
  <dc:description/>
  <dc:language>en-US</dc:language>
  <cp:lastModifiedBy>sroberts</cp:lastModifiedBy>
  <dcterms:modified xsi:type="dcterms:W3CDTF">2011-09-08T17:50:36Z</dcterms:modified>
  <cp:revision>9</cp:revision>
  <dc:subject/>
  <dc:title>Chapter One</dc:title>
</cp:coreProperties>
</file>